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93D-E394-453B-94F3-951B6DB3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483-1A49-4800-950C-C08C44EE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921-D8D8-446F-83A5-024FBBC2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AB1-B463-4590-8E2A-BE4457D5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C08A-E2EA-44A5-A1E4-1AE688CE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79F-8C1F-43A6-8E38-EE9B497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1C2-6A3D-4C9D-8DB7-35FD16F1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2080-0B26-4CCB-8017-5AEF83C7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81D7-8219-4935-A72B-F1D422A1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FDAF-9D6F-4B41-BA24-62E37D15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A544-A643-4930-B126-F86C0FDC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6CE-2841-4886-AF36-8D75D65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A7E1-4930-49AB-AB95-20AF870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A1C7-D708-4A89-878F-7D5958C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5586-8E03-4887-8E8B-54DE8417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3559-2012-4782-A05E-16CED1CB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374A-DDF8-478C-9EC5-2FEFB9A6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BAC1-4072-4926-B393-349A1429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F33D-3B92-485C-BE35-8CDE7A7D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9D3C-BB41-4541-AFB4-1B82C742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C21A-BD2B-4B8C-810B-E06A6683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87D5-D101-4381-8E37-B584E0A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BA8-6442-4AF8-9B6E-CF2DE843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FB39-2A47-484B-8652-F820B5E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4F10-2EFC-4509-BF13-58611874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73FB-D836-4B01-AB63-05671E5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BA39-19BB-4DEB-A660-15706B7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9040-FBEF-47F8-B824-65FFD1AF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B9BE-247E-4354-B2C9-B044BE89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15CF-B078-43FC-8589-7EF81516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18F-73C0-4C3A-B9DB-3AB5BB2E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25A-7A8C-4CDE-8802-7520EB51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77C-0548-44D4-90EF-A8E3ACBA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3CE-9A6B-46BB-B8E1-2B08C7E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A08-2B04-4C37-8528-788CDF4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ED6-B924-4D8A-B09D-311C129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B0494-046B-4C63-81B7-F90F704984D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A7F89-1F0D-42C6-9C61-83D79E167D6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15063-B59C-4A1A-96A0-7CB2BF69B37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EAB3A-BD52-4685-8685-282061D5E5C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C2433-8855-4E4B-8D89-67CDB2EDC51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F2610-744C-4A4A-8F80-C168F30BAB6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2430000"/>
            <a:ext cx="3630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5/6 grade students at Westridge Elementary Schoo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s. Vanderford’s Clas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6" name="Picture 4" descr="school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966960" y="617400"/>
            <a:ext cx="78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ws Gothic MT"/>
              </a:rPr>
              <a:t>How we can make a difference?</a:t>
            </a:r>
            <a:endParaRPr b="0" lang="en-US" sz="40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ur Recommend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Save Energy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tudents Explor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Timeli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oblem-Solving Solu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llecting the Dat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nducting the Research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alyzing the Dat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loring Solu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21:02:32Z</dcterms:created>
  <dc:creator>Linda Vanderford</dc:creator>
  <dc:description/>
  <dc:language>en-US</dc:language>
  <cp:lastModifiedBy>Linda Vanderford</cp:lastModifiedBy>
  <dcterms:modified xsi:type="dcterms:W3CDTF">2010-08-04T21:32:16Z</dcterms:modified>
  <cp:revision>1</cp:revision>
  <dc:subject/>
  <dc:title>Slide 1</dc:title>
</cp:coreProperties>
</file>